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n%D1%81%D0%BF%D0%BE%D0%BA%D0%BE%D0%B9%D1%81%D1%82%D0%B2%D0%B8%D0%B5%20%D1%82%D0%BE%D0%BB%D1%8C%D0%BA%D0%BE.....WAV" ContentType="audio/x-wav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%D0%A7%D1%83%D0%B4%D0%BE.wav" ContentType="audio/x-wav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3D7-02E5-4FF5-8A45-B2AE76A0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13B-A899-4B5E-A734-765405EF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B5A-6DDB-47E8-9C22-80826533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6D4-4447-4E4B-A118-8AD76299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AF4-B690-446C-8861-36EEA9A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2C3-04B8-4795-BE79-F7FA3C86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168-351D-4330-AC2F-D70C08F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774-1EAA-4687-AFAC-1ECD6CE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32D-AFA5-4D98-BFFB-47DDFFE9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1C3-9E42-425C-BEED-245985A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686-4881-44A1-B6B8-687C7B4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E8E-EA8D-4524-8A03-3BE38A64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850B-39F1-4FE4-89C6-BB42A6F9ED08}" type="slidenum">
              <a:rPr b="0" lang="ru-RU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n&#1089;&#1087;&#1086;&#1082;&#1086;&#1081;&#1089;&#1090;&#1074;&#1080;&#1077;%20&#1090;&#1086;&#1083;&#1100;&#1082;&#1086;....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hyperlink" Target="file:///tmp/home/.config/libreoffice/4/user/gallery/&#1063;&#1091;&#1076;&#1086;.wav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n&#1103;%20&#1090;&#1072;&#1082;%20&#1085;&#1077;%20&#1080;&#1075;&#1088;&#1072;&#1102;.WAV" TargetMode="External"/><Relationship Id="rId4" Type="http://schemas.openxmlformats.org/officeDocument/2006/relationships/image" Target="../media/image6.png"/><Relationship Id="rId5" Type="http://schemas.openxmlformats.org/officeDocument/2006/relationships/hyperlink" Target="file:///tmp/home/.config/libreoffice/4/user/gallery/n&#1103;%20&#1090;&#1072;&#1082;%20&#1085;&#1077;%20&#1080;&#1075;&#1088;&#1072;&#1102;.WAV" TargetMode="External"/><Relationship Id="rId6" Type="http://schemas.openxmlformats.org/officeDocument/2006/relationships/image" Target="../media/image6.png"/><Relationship Id="rId7" Type="http://schemas.openxmlformats.org/officeDocument/2006/relationships/hyperlink" Target="file:///tmp/home/.config/libreoffice/4/user/gallery/n&#1103;%20&#1090;&#1072;&#1082;%20&#1085;&#1077;%20&#1080;&#1075;&#1088;&#1072;&#1102;.WAV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tmp/home/.config/libreoffice/4/user/gallery/n&#1103;%20&#1090;&#1072;&#1082;%20&#1085;&#1077;%20&#1080;&#1075;&#1088;&#1072;&#1102;.WAV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audio" Target="../media/&#1063;&#1091;&#1076;&#1086;.wav"/><Relationship Id="rId21" Type="http://schemas.openxmlformats.org/officeDocument/2006/relationships/audio" Target="../media/&#1063;&#1091;&#1076;&#1086;.wav"/><Relationship Id="rId22" Type="http://schemas.openxmlformats.org/officeDocument/2006/relationships/audio" Target="../media/&#1063;&#1091;&#1076;&#1086;.wav"/><Relationship Id="rId23" Type="http://schemas.openxmlformats.org/officeDocument/2006/relationships/audio" Target="../media/&#1063;&#1091;&#1076;&#1086;.wav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63;&#1091;&#1076;&#1086;.wav" TargetMode="External"/><Relationship Id="rId2" Type="http://schemas.openxmlformats.org/officeDocument/2006/relationships/slide" Target="slide10.xm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63;&#1091;&#1076;&#1086;.wav" TargetMode="External"/><Relationship Id="rId2" Type="http://schemas.openxmlformats.org/officeDocument/2006/relationships/slide" Target="slide10.xm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63;&#1091;&#1076;&#1086;.wav" TargetMode="External"/><Relationship Id="rId2" Type="http://schemas.openxmlformats.org/officeDocument/2006/relationships/slide" Target="slide10.xml"/><Relationship Id="rId3" Type="http://schemas.openxmlformats.org/officeDocument/2006/relationships/hyperlink" Target="file:///tmp/home/.config/libreoffice/4/user/gallery/&#1055;&#1088;&#1086;&#1076;&#1086;&#1083;&#1078;&#1072;&#1077;&#1084;%20&#1088;&#1072;&#1079;&#1075;&#1086;&#1074;&#1086;&#1088;.wav" TargetMode="Externa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hyperlink" Target="file:///tmp/home/.config/libreoffice/4/user/gallery/&#1063;&#1091;&#1076;&#1086;.wav" TargetMode="Externa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hyperlink" Target="file:///tmp/home/.config/libreoffice/4/user/gallery/&#1063;&#1091;&#1076;&#1086;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050920" y="134136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Математик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00000" y="2637000"/>
            <a:ext cx="5689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Тренажер для первокласснико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484360" y="3573360"/>
            <a:ext cx="418140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Выполнила презентацию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учитель начальных классов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Impact"/>
              </a:rPr>
              <a:t>Чухнина О.М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5d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акарл"/>
          <p:cNvPicPr/>
          <p:nvPr/>
        </p:nvPicPr>
        <p:blipFill>
          <a:blip r:embed="rId1"/>
          <a:stretch/>
        </p:blipFill>
        <p:spPr>
          <a:xfrm rot="1199400">
            <a:off x="4911480" y="1700280"/>
            <a:ext cx="3836880" cy="47037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 flipH="1">
            <a:off x="395280" y="476280"/>
            <a:ext cx="4681440" cy="2592360"/>
          </a:xfrm>
          <a:prstGeom prst="cloudCallout">
            <a:avLst>
              <a:gd name="adj1" fmla="val -60953"/>
              <a:gd name="adj2" fmla="val 57407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55640" y="981000"/>
            <a:ext cx="388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олько спокойств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AutoShape 5">
            <a:hlinkClick r:id="" action="ppaction://hlinkshowjump?jump=previousslide"/>
          </p:cNvPr>
          <p:cNvSpPr/>
          <p:nvPr/>
        </p:nvSpPr>
        <p:spPr>
          <a:xfrm>
            <a:off x="250920" y="6237360"/>
            <a:ext cx="466560" cy="395280"/>
          </a:xfrm>
          <a:custGeom>
            <a:avLst/>
            <a:gdLst>
              <a:gd name="textAreaLeft" fmla="*/ 25560 w 466560"/>
              <a:gd name="textAreaRight" fmla="*/ 441000 w 4665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92" h="21600">
                <a:moveTo>
                  <a:pt x="0" y="0"/>
                </a:moveTo>
                <a:lnTo>
                  <a:pt x="25492" y="0"/>
                </a:lnTo>
                <a:lnTo>
                  <a:pt x="25492" y="21600"/>
                </a:lnTo>
                <a:lnTo>
                  <a:pt x="0" y="21600"/>
                </a:lnTo>
                <a:close/>
              </a:path>
              <a:path fill="lightenLess" w="25492" h="21600">
                <a:moveTo>
                  <a:pt x="0" y="0"/>
                </a:moveTo>
                <a:lnTo>
                  <a:pt x="25492" y="0"/>
                </a:lnTo>
                <a:lnTo>
                  <a:pt x="24092" y="1400"/>
                </a:lnTo>
                <a:lnTo>
                  <a:pt x="1400" y="1400"/>
                </a:lnTo>
                <a:close/>
              </a:path>
              <a:path fill="darken" w="25492" h="21600">
                <a:moveTo>
                  <a:pt x="25492" y="0"/>
                </a:moveTo>
                <a:lnTo>
                  <a:pt x="25492" y="21600"/>
                </a:lnTo>
                <a:lnTo>
                  <a:pt x="24092" y="20200"/>
                </a:lnTo>
                <a:lnTo>
                  <a:pt x="24092" y="1400"/>
                </a:lnTo>
                <a:close/>
              </a:path>
              <a:path fill="darkenLess" w="25492" h="21600">
                <a:moveTo>
                  <a:pt x="2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92" y="20200"/>
                </a:lnTo>
                <a:close/>
              </a:path>
              <a:path fill="lighten" w="2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92" h="21600">
                <a:moveTo>
                  <a:pt x="5739" y="10800"/>
                </a:moveTo>
                <a:lnTo>
                  <a:pt x="19752" y="3794"/>
                </a:lnTo>
                <a:lnTo>
                  <a:pt x="19752" y="17806"/>
                </a:lnTo>
                <a:close/>
              </a:path>
            </a:pathLst>
          </a:custGeom>
          <a:solidFill>
            <a:srgbClr val="ff8585"/>
          </a:solidFill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2" name="Picture 6" descr="а18"/>
          <p:cNvPicPr/>
          <p:nvPr/>
        </p:nvPicPr>
        <p:blipFill>
          <a:blip r:embed="rId2"/>
          <a:srcRect l="71250" t="25183" r="16146" b="37007"/>
          <a:stretch/>
        </p:blipFill>
        <p:spPr>
          <a:xfrm>
            <a:off x="1187280" y="3789360"/>
            <a:ext cx="15354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3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23">
            <a:hlinkClick r:id="" action="ppaction://hlinkshowjump?jump=nextslide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Text Box 24">
            <a:hlinkClick r:id="rId1" action="ppaction://hlinksldjump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Text Box 25">
            <a:hlinkClick r:id="rId2" action="ppaction://hlinksldjump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Text Box 26">
            <a:hlinkClick r:id="rId3" action="ppaction://hlinksldjump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Text Box 27">
            <a:hlinkClick r:id="rId4" action="ppaction://hlinksldjump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Text Box 28">
            <a:hlinkClick r:id="rId5" action="ppaction://hlinksldjump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4" name="Text Box 22">
            <a:hlinkClick r:id="rId1" action="ppaction://hlinksldjump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Text Box 23">
            <a:hlinkClick r:id="" action="ppaction://hlinkshowjump?jump=nextslide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24">
            <a:hlinkClick r:id="rId2" action="ppaction://hlinksldjump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Text Box 25">
            <a:hlinkClick r:id="rId3" action="ppaction://hlinksldjump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8" name="Text Box 26">
            <a:hlinkClick r:id="rId4" action="ppaction://hlinksldjump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Text Box 27">
            <a:hlinkClick r:id="rId5" action="ppaction://hlinksldjump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126520" y="2655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Text Box 22">
            <a:hlinkClick r:id="rId1" action="ppaction://hlinksldjump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Text Box 23">
            <a:hlinkClick r:id="rId2" action="ppaction://hlinksldjump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Text Box 24">
            <a:hlinkClick r:id="" action="ppaction://hlinkshowjump?jump=nextslide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7" name="Text Box 25">
            <a:hlinkClick r:id="rId3" action="ppaction://hlinksldjump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Text Box 26">
            <a:hlinkClick r:id="rId4" action="ppaction://hlinksldjump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Text Box 27">
            <a:hlinkClick r:id="rId5" action="ppaction://hlinksldjump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2126520" y="2655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06108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Text Box 22">
            <a:hlinkClick r:id="rId1" action="ppaction://hlinksldjump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Text Box 23">
            <a:hlinkClick r:id="rId2" action="ppaction://hlinksldjump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Text Box 24">
            <a:hlinkClick r:id="rId3" action="ppaction://hlinksldjump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Text Box 25">
            <a:hlinkClick r:id="" action="ppaction://hlinkshowjump?jump=nextslide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9" name="Text Box 26">
            <a:hlinkClick r:id="rId4" action="ppaction://hlinksldjump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Text Box 27">
            <a:hlinkClick r:id="rId5" action="ppaction://hlinksldjump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2126520" y="2655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306108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6" name="Text Box 22">
            <a:hlinkClick r:id="rId1" action="ppaction://hlinksldjump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7" name="Text Box 23">
            <a:hlinkClick r:id="rId2" action="ppaction://hlinksldjump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8" name="Text Box 24">
            <a:hlinkClick r:id="rId3" action="ppaction://hlinksldjump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Text Box 25">
            <a:hlinkClick r:id="rId4" action="ppaction://hlinksldjump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Text Box 26">
            <a:hlinkClick r:id="" action="ppaction://hlinkshowjump?jump=nextslide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Text Box 27">
            <a:hlinkClick r:id="rId5" action="ppaction://hlinksldjump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3926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126520" y="2655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06108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Text Box 22">
            <a:hlinkClick r:id="rId1" action="ppaction://hlinksldjump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9" name="Text Box 23">
            <a:hlinkClick r:id="rId2" action="ppaction://hlinksldjump"/>
          </p:cNvPr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Text Box 24">
            <a:hlinkClick r:id="rId3" action="ppaction://hlinksldjump"/>
          </p:cNvPr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1" name="Text Box 25">
            <a:hlinkClick r:id="rId4" action="ppaction://hlinksldjump"/>
          </p:cNvPr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Text Box 26">
            <a:hlinkClick r:id="rId5" action="ppaction://hlinksldjump"/>
          </p:cNvPr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3" name="Text Box 27">
            <a:hlinkClick r:id="" action="ppaction://hlinkshowjump?jump=nextslide"/>
            <a:hlinkClick r:id="rId6"/>
          </p:cNvPr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3926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468360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2"/>
          <p:cNvSpPr txBox="1"/>
          <p:nvPr/>
        </p:nvSpPr>
        <p:spPr>
          <a:xfrm>
            <a:off x="1979640" y="126828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убывания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332000" y="2422440"/>
          <a:ext cx="4824360" cy="1150920"/>
        </p:xfrm>
        <a:graphic>
          <a:graphicData uri="http://schemas.openxmlformats.org/drawingml/2006/table">
            <a:tbl>
              <a:tblPr/>
              <a:tblGrid>
                <a:gridCol w="804600"/>
                <a:gridCol w="803520"/>
                <a:gridCol w="804960"/>
                <a:gridCol w="803160"/>
                <a:gridCol w="804960"/>
                <a:gridCol w="8031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19"/>
          <p:cNvSpPr/>
          <p:nvPr/>
        </p:nvSpPr>
        <p:spPr>
          <a:xfrm>
            <a:off x="1313640" y="26352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2126520" y="2655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306108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Text Box 22">
            <a:hlinkClick r:id="" action="ppaction://hlinkshowjump?jump=nextslide"/>
          </p:cNvPr>
          <p:cNvSpPr/>
          <p:nvPr/>
        </p:nvSpPr>
        <p:spPr>
          <a:xfrm>
            <a:off x="2817000" y="393048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4472640" y="395136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547560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381996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6194880" y="395136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2091240" y="393048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3926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468360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551052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AutoShape 31">
            <a:hlinkClick r:id="" action="ppaction://hlinkshowjump?jump=nextslide"/>
          </p:cNvPr>
          <p:cNvSpPr/>
          <p:nvPr/>
        </p:nvSpPr>
        <p:spPr>
          <a:xfrm>
            <a:off x="108000" y="6348240"/>
            <a:ext cx="611280" cy="393840"/>
          </a:xfrm>
          <a:custGeom>
            <a:avLst/>
            <a:gdLst>
              <a:gd name="textAreaLeft" fmla="*/ 25200 w 611280"/>
              <a:gd name="textAreaRight" fmla="*/ 586080 w 61128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33515" h="21600">
                <a:moveTo>
                  <a:pt x="0" y="0"/>
                </a:moveTo>
                <a:lnTo>
                  <a:pt x="33515" y="0"/>
                </a:lnTo>
                <a:lnTo>
                  <a:pt x="33515" y="21600"/>
                </a:lnTo>
                <a:lnTo>
                  <a:pt x="0" y="21600"/>
                </a:lnTo>
                <a:close/>
              </a:path>
              <a:path fill="lightenLess" w="33515" h="21600">
                <a:moveTo>
                  <a:pt x="0" y="0"/>
                </a:moveTo>
                <a:lnTo>
                  <a:pt x="33515" y="0"/>
                </a:lnTo>
                <a:lnTo>
                  <a:pt x="32115" y="1400"/>
                </a:lnTo>
                <a:lnTo>
                  <a:pt x="1400" y="1400"/>
                </a:lnTo>
                <a:close/>
              </a:path>
              <a:path fill="darken" w="33515" h="21600">
                <a:moveTo>
                  <a:pt x="33515" y="0"/>
                </a:moveTo>
                <a:lnTo>
                  <a:pt x="33515" y="21600"/>
                </a:lnTo>
                <a:lnTo>
                  <a:pt x="32115" y="20200"/>
                </a:lnTo>
                <a:lnTo>
                  <a:pt x="32115" y="1400"/>
                </a:lnTo>
                <a:close/>
              </a:path>
              <a:path fill="darkenLess" w="33515" h="21600">
                <a:moveTo>
                  <a:pt x="33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5" y="20200"/>
                </a:lnTo>
                <a:close/>
              </a:path>
              <a:path fill="lighten" w="33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5" h="21600">
                <a:moveTo>
                  <a:pt x="9751" y="3794"/>
                </a:moveTo>
                <a:lnTo>
                  <a:pt x="23764" y="10800"/>
                </a:lnTo>
                <a:lnTo>
                  <a:pt x="9751" y="17806"/>
                </a:lnTo>
                <a:close/>
              </a:path>
            </a:pathLst>
          </a:custGeom>
          <a:solidFill>
            <a:srgbClr val="800000">
              <a:alpha val="65000"/>
            </a:srgbClr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2"/>
          <p:cNvSpPr txBox="1"/>
          <p:nvPr/>
        </p:nvSpPr>
        <p:spPr>
          <a:xfrm>
            <a:off x="1116000" y="1268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2583360" y="2211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7      2  =  9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72200" y="29322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      3  =  3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572200" y="3716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1  =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572200" y="4437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2  =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060720" y="23288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3059280" y="30495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060720" y="38354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3059280" y="45543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4143240" y="5950080"/>
            <a:ext cx="57492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536580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2" name="Text Box 13">
            <a:hlinkClick r:id="" action="ppaction://hlinkshowjump?jump=nextslide"/>
            <a:hlinkClick r:id="rId1"/>
          </p:cNvPr>
          <p:cNvSpPr/>
          <p:nvPr/>
        </p:nvSpPr>
        <p:spPr>
          <a:xfrm>
            <a:off x="414468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Text Box 14">
            <a:hlinkClick r:id="rId2" action="ppaction://hlinksldjump"/>
          </p:cNvPr>
          <p:cNvSpPr/>
          <p:nvPr/>
        </p:nvSpPr>
        <p:spPr>
          <a:xfrm>
            <a:off x="537696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116000" y="1268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583360" y="2211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7      2  =  9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572200" y="29322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      3  =  3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572200" y="3716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1  =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572200" y="4437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2  =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3060720" y="23288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3059280" y="30495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3060720" y="38354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3059280" y="45543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4143240" y="5950080"/>
            <a:ext cx="57492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536580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Text Box 23">
            <a:hlinkClick r:id="rId1" action="ppaction://hlinksldjump"/>
          </p:cNvPr>
          <p:cNvSpPr/>
          <p:nvPr/>
        </p:nvSpPr>
        <p:spPr>
          <a:xfrm>
            <a:off x="414468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6" name="Text Box 24">
            <a:hlinkClick r:id="" action="ppaction://hlinkshowjump?jump=nextslide"/>
            <a:hlinkClick r:id="rId2"/>
          </p:cNvPr>
          <p:cNvSpPr/>
          <p:nvPr/>
        </p:nvSpPr>
        <p:spPr>
          <a:xfrm>
            <a:off x="537696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Text Box 25">
            <a:hlinkClick r:id="" action="ppaction://hlinkshowjump?jump=nextslide"/>
            <a:hlinkClick r:id="rId3"/>
          </p:cNvPr>
          <p:cNvSpPr/>
          <p:nvPr/>
        </p:nvSpPr>
        <p:spPr>
          <a:xfrm>
            <a:off x="2989080" y="2060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1387440" y="260280"/>
            <a:ext cx="764856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rial"/>
              </a:rPr>
              <a:t>Помоги зайчику собрать съедобные морковки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rial"/>
              </a:rPr>
              <a:t>Раскрась только те из них,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Arial"/>
              </a:rPr>
              <a:t>в которые вписаны натуральные числа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7">
            <a:hlinkClick r:id="" action="ppaction://hlinkshowjump?jump=nextslide"/>
          </p:cNvPr>
          <p:cNvSpPr/>
          <p:nvPr/>
        </p:nvSpPr>
        <p:spPr>
          <a:xfrm>
            <a:off x="2393640" y="2417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16676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187280" y="3355920"/>
            <a:ext cx="289080" cy="289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219040" y="530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405480" y="2521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948360" y="3716280"/>
            <a:ext cx="432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108480" y="465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6949800" y="530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Picture 15" descr=""/>
          <p:cNvPicPr/>
          <p:nvPr/>
        </p:nvPicPr>
        <p:blipFill>
          <a:blip r:embed="rId2"/>
          <a:srcRect l="53796" t="0" r="14087" b="0"/>
          <a:stretch/>
        </p:blipFill>
        <p:spPr>
          <a:xfrm flipH="1" rot="19881000">
            <a:off x="2106000" y="2066760"/>
            <a:ext cx="115236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>
            <a:hlinkClick r:id="rId3"/>
          </p:cNvPr>
          <p:cNvPicPr/>
          <p:nvPr/>
        </p:nvPicPr>
        <p:blipFill>
          <a:blip r:embed="rId4"/>
          <a:srcRect l="53796" t="0" r="14087" b="0"/>
          <a:stretch/>
        </p:blipFill>
        <p:spPr>
          <a:xfrm flipH="1" rot="19217400">
            <a:off x="915480" y="2825280"/>
            <a:ext cx="1020960" cy="1573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7"/>
          <p:cNvSpPr/>
          <p:nvPr/>
        </p:nvSpPr>
        <p:spPr>
          <a:xfrm>
            <a:off x="901440" y="4437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Picture 18" descr="">
            <a:hlinkClick r:id="rId5"/>
          </p:cNvPr>
          <p:cNvPicPr/>
          <p:nvPr/>
        </p:nvPicPr>
        <p:blipFill>
          <a:blip r:embed="rId6"/>
          <a:srcRect l="53796" t="0" r="14087" b="0"/>
          <a:stretch/>
        </p:blipFill>
        <p:spPr>
          <a:xfrm flipH="1" rot="18189000">
            <a:off x="734040" y="4094640"/>
            <a:ext cx="1092240" cy="157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>
            <a:hlinkClick r:id="rId7"/>
          </p:cNvPr>
          <p:cNvPicPr/>
          <p:nvPr/>
        </p:nvPicPr>
        <p:blipFill>
          <a:blip r:embed="rId8"/>
          <a:srcRect l="53796" t="0" r="14087" b="0"/>
          <a:stretch/>
        </p:blipFill>
        <p:spPr>
          <a:xfrm rot="2631600">
            <a:off x="5866920" y="1915920"/>
            <a:ext cx="1198800" cy="214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">
            <a:hlinkClick r:id="rId9"/>
          </p:cNvPr>
          <p:cNvPicPr/>
          <p:nvPr/>
        </p:nvPicPr>
        <p:blipFill>
          <a:blip r:embed="rId10"/>
          <a:srcRect l="53796" t="0" r="14087" b="0"/>
          <a:stretch/>
        </p:blipFill>
        <p:spPr>
          <a:xfrm rot="2382600">
            <a:off x="6540480" y="3071520"/>
            <a:ext cx="1090800" cy="158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"/>
          <p:cNvPicPr/>
          <p:nvPr/>
        </p:nvPicPr>
        <p:blipFill>
          <a:blip r:embed="rId11"/>
          <a:srcRect l="53796" t="0" r="14087" b="0"/>
          <a:stretch/>
        </p:blipFill>
        <p:spPr>
          <a:xfrm rot="2382600">
            <a:off x="1731600" y="4954680"/>
            <a:ext cx="1152360" cy="15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"/>
          <p:cNvPicPr/>
          <p:nvPr/>
        </p:nvPicPr>
        <p:blipFill>
          <a:blip r:embed="rId12"/>
          <a:srcRect l="53796" t="0" r="14087" b="0"/>
          <a:stretch/>
        </p:blipFill>
        <p:spPr>
          <a:xfrm rot="3175800">
            <a:off x="5519520" y="4186080"/>
            <a:ext cx="1203480" cy="175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"/>
          <p:cNvPicPr/>
          <p:nvPr/>
        </p:nvPicPr>
        <p:blipFill>
          <a:blip r:embed="rId13"/>
          <a:srcRect l="53796" t="0" r="14087" b="0"/>
          <a:stretch/>
        </p:blipFill>
        <p:spPr>
          <a:xfrm flipH="1" rot="19217400">
            <a:off x="6832440" y="4965480"/>
            <a:ext cx="124740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"/>
          <p:cNvPicPr/>
          <p:nvPr/>
        </p:nvPicPr>
        <p:blipFill>
          <a:blip r:embed="rId14"/>
          <a:srcRect l="13147" t="0" r="54731" b="0"/>
          <a:stretch/>
        </p:blipFill>
        <p:spPr>
          <a:xfrm flipH="1" rot="20005200">
            <a:off x="1979280" y="2077560"/>
            <a:ext cx="1276200" cy="156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"/>
          <p:cNvPicPr/>
          <p:nvPr/>
        </p:nvPicPr>
        <p:blipFill>
          <a:blip r:embed="rId15"/>
          <a:srcRect l="13147" t="0" r="54731" b="0"/>
          <a:stretch/>
        </p:blipFill>
        <p:spPr>
          <a:xfrm rot="2256600">
            <a:off x="1719360" y="4950000"/>
            <a:ext cx="1268280" cy="157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/>
          <p:cNvPicPr/>
          <p:nvPr/>
        </p:nvPicPr>
        <p:blipFill>
          <a:blip r:embed="rId16"/>
          <a:srcRect l="13147" t="0" r="54731" b="0"/>
          <a:stretch/>
        </p:blipFill>
        <p:spPr>
          <a:xfrm rot="2899800">
            <a:off x="5460120" y="4197960"/>
            <a:ext cx="1392120" cy="1727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"/>
          <p:cNvPicPr/>
          <p:nvPr/>
        </p:nvPicPr>
        <p:blipFill>
          <a:blip r:embed="rId17"/>
          <a:srcRect l="13147" t="0" r="54731" b="0"/>
          <a:stretch/>
        </p:blipFill>
        <p:spPr>
          <a:xfrm flipH="1" rot="19167000">
            <a:off x="6732000" y="4870440"/>
            <a:ext cx="1295280" cy="17269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8">
            <a:hlinkClick r:id="" action="ppaction://hlinkshowjump?jump=nextslide"/>
          </p:cNvPr>
          <p:cNvSpPr/>
          <p:nvPr/>
        </p:nvSpPr>
        <p:spPr>
          <a:xfrm>
            <a:off x="8317080" y="6237360"/>
            <a:ext cx="610920" cy="395280"/>
          </a:xfrm>
          <a:custGeom>
            <a:avLst/>
            <a:gdLst>
              <a:gd name="textAreaLeft" fmla="*/ 25560 w 610920"/>
              <a:gd name="textAreaRight" fmla="*/ 585360 w 610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73" h="21600">
                <a:moveTo>
                  <a:pt x="9680" y="3794"/>
                </a:moveTo>
                <a:lnTo>
                  <a:pt x="23693" y="10800"/>
                </a:lnTo>
                <a:lnTo>
                  <a:pt x="9680" y="17806"/>
                </a:lnTo>
                <a:close/>
              </a:path>
            </a:pathLst>
          </a:custGeom>
          <a:solidFill>
            <a:srgbClr val="acf2be"/>
          </a:solidFill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7" name="Picture 31" descr=""/>
          <p:cNvPicPr/>
          <p:nvPr/>
        </p:nvPicPr>
        <p:blipFill>
          <a:blip r:embed="rId18"/>
          <a:stretch/>
        </p:blipFill>
        <p:spPr>
          <a:xfrm>
            <a:off x="3479760" y="3213000"/>
            <a:ext cx="1739880" cy="33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акар"/>
          <p:cNvPicPr/>
          <p:nvPr/>
        </p:nvPicPr>
        <p:blipFill>
          <a:blip r:embed="rId19"/>
          <a:stretch/>
        </p:blipFill>
        <p:spPr>
          <a:xfrm>
            <a:off x="108000" y="189000"/>
            <a:ext cx="15001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A7%D1%83%D0%B4%D0%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A7%D1%83%D0%B4%D0%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A7%D1%83%D0%B4%D0%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A7%D1%83%D0%B4%D0%B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2"/>
          <p:cNvSpPr txBox="1"/>
          <p:nvPr/>
        </p:nvSpPr>
        <p:spPr>
          <a:xfrm>
            <a:off x="1116000" y="1268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583360" y="2211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7      2  =  9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572200" y="29322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      3  =  3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572200" y="3716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1  =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2572200" y="4437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2  =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060720" y="23288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059280" y="30495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060720" y="38354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3059280" y="45543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143240" y="5950080"/>
            <a:ext cx="57492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536580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Text Box 13">
            <a:hlinkClick r:id="rId1" action="ppaction://hlinksldjump"/>
          </p:cNvPr>
          <p:cNvSpPr/>
          <p:nvPr/>
        </p:nvSpPr>
        <p:spPr>
          <a:xfrm>
            <a:off x="414468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" name="Text Box 14">
            <a:hlinkClick r:id="" action="ppaction://hlinkshowjump?jump=nextslide"/>
            <a:hlinkClick r:id="rId2"/>
          </p:cNvPr>
          <p:cNvSpPr/>
          <p:nvPr/>
        </p:nvSpPr>
        <p:spPr>
          <a:xfrm>
            <a:off x="537696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Text Box 15">
            <a:hlinkClick r:id="" action="ppaction://hlinkshowjump?jump=nextslide"/>
            <a:hlinkClick r:id="rId3"/>
          </p:cNvPr>
          <p:cNvSpPr/>
          <p:nvPr/>
        </p:nvSpPr>
        <p:spPr>
          <a:xfrm>
            <a:off x="2989080" y="2060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Text Box 17">
            <a:hlinkClick r:id="" action="ppaction://hlinkshowjump?jump=nextslide"/>
            <a:hlinkClick r:id="rId4"/>
          </p:cNvPr>
          <p:cNvSpPr/>
          <p:nvPr/>
        </p:nvSpPr>
        <p:spPr>
          <a:xfrm>
            <a:off x="300060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116000" y="1268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583360" y="2211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7      2  =  9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2572200" y="29322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      3  =  3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572200" y="3716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1  =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572200" y="4437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2  =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060720" y="23288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3059280" y="30495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3060720" y="38354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3059280" y="45543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4143240" y="5950080"/>
            <a:ext cx="57492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36580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4" name="Text Box 13">
            <a:hlinkClick r:id="" action="ppaction://hlinkshowjump?jump=nextslide"/>
            <a:hlinkClick r:id="rId1"/>
          </p:cNvPr>
          <p:cNvSpPr/>
          <p:nvPr/>
        </p:nvSpPr>
        <p:spPr>
          <a:xfrm>
            <a:off x="414468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5" name="Text Box 14">
            <a:hlinkClick r:id="rId2" action="ppaction://hlinksldjump"/>
          </p:cNvPr>
          <p:cNvSpPr/>
          <p:nvPr/>
        </p:nvSpPr>
        <p:spPr>
          <a:xfrm>
            <a:off x="537696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Text Box 15">
            <a:hlinkClick r:id="" action="ppaction://hlinkshowjump?jump=nextslide"/>
            <a:hlinkClick r:id="rId3"/>
          </p:cNvPr>
          <p:cNvSpPr/>
          <p:nvPr/>
        </p:nvSpPr>
        <p:spPr>
          <a:xfrm>
            <a:off x="2989080" y="2060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Text Box 17">
            <a:hlinkClick r:id="" action="ppaction://hlinkshowjump?jump=nextslide"/>
          </p:cNvPr>
          <p:cNvSpPr/>
          <p:nvPr/>
        </p:nvSpPr>
        <p:spPr>
          <a:xfrm>
            <a:off x="3000600" y="3213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8" name="Text Box 18">
            <a:hlinkClick r:id="rId4" action="ppaction://hlinksldjump"/>
          </p:cNvPr>
          <p:cNvSpPr/>
          <p:nvPr/>
        </p:nvSpPr>
        <p:spPr>
          <a:xfrm>
            <a:off x="300060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2"/>
          <p:cNvSpPr txBox="1"/>
          <p:nvPr/>
        </p:nvSpPr>
        <p:spPr>
          <a:xfrm>
            <a:off x="1116000" y="1268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583360" y="2211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7      2  =  9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572200" y="29322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6      3  =  3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572200" y="37162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1  = 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572200" y="443700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2  =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060720" y="23288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059280" y="30495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060720" y="383544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059280" y="4554360"/>
            <a:ext cx="50292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4143240" y="5950080"/>
            <a:ext cx="57492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536580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414468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537696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2" name="Text Box 15">
            <a:hlinkClick r:id="" action="ppaction://hlinkshowjump?jump=nextslide"/>
            <a:hlinkClick r:id="rId1"/>
          </p:cNvPr>
          <p:cNvSpPr/>
          <p:nvPr/>
        </p:nvSpPr>
        <p:spPr>
          <a:xfrm>
            <a:off x="2989080" y="2060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Text Box 17">
            <a:hlinkClick r:id="" action="ppaction://hlinkshowjump?jump=nextslide"/>
          </p:cNvPr>
          <p:cNvSpPr/>
          <p:nvPr/>
        </p:nvSpPr>
        <p:spPr>
          <a:xfrm>
            <a:off x="3000600" y="3213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4" name="Text Box 18">
            <a:hlinkClick r:id="rId2" action="ppaction://hlinksldjump"/>
          </p:cNvPr>
          <p:cNvSpPr/>
          <p:nvPr/>
        </p:nvSpPr>
        <p:spPr>
          <a:xfrm>
            <a:off x="2989080" y="4292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AutoShape 19">
            <a:hlinkClick r:id="" action="ppaction://hlinkshowjump?jump=nextslide"/>
          </p:cNvPr>
          <p:cNvSpPr/>
          <p:nvPr/>
        </p:nvSpPr>
        <p:spPr>
          <a:xfrm>
            <a:off x="108000" y="6308640"/>
            <a:ext cx="576360" cy="459000"/>
          </a:xfrm>
          <a:custGeom>
            <a:avLst/>
            <a:gdLst>
              <a:gd name="textAreaLeft" fmla="*/ 29520 w 576360"/>
              <a:gd name="textAreaRight" fmla="*/ 546840 w 576360"/>
              <a:gd name="textAreaTop" fmla="*/ 29520 h 459000"/>
              <a:gd name="textAreaBottom" fmla="*/ 429480 h 459000"/>
            </a:gdLst>
            <a:ahLst/>
            <a:rect l="textAreaLeft" t="textAreaTop" r="textAreaRight" b="textAreaBottom"/>
            <a:pathLst>
              <a:path w="27118" h="21600">
                <a:moveTo>
                  <a:pt x="0" y="0"/>
                </a:moveTo>
                <a:lnTo>
                  <a:pt x="27118" y="0"/>
                </a:lnTo>
                <a:lnTo>
                  <a:pt x="27118" y="21600"/>
                </a:lnTo>
                <a:lnTo>
                  <a:pt x="0" y="21600"/>
                </a:lnTo>
                <a:close/>
              </a:path>
              <a:path fill="lightenLess" w="27118" h="21600">
                <a:moveTo>
                  <a:pt x="0" y="0"/>
                </a:moveTo>
                <a:lnTo>
                  <a:pt x="27118" y="0"/>
                </a:lnTo>
                <a:lnTo>
                  <a:pt x="25718" y="1400"/>
                </a:lnTo>
                <a:lnTo>
                  <a:pt x="1400" y="1400"/>
                </a:lnTo>
                <a:close/>
              </a:path>
              <a:path fill="darken" w="27118" h="21600">
                <a:moveTo>
                  <a:pt x="27118" y="0"/>
                </a:moveTo>
                <a:lnTo>
                  <a:pt x="27118" y="21600"/>
                </a:lnTo>
                <a:lnTo>
                  <a:pt x="25718" y="20200"/>
                </a:lnTo>
                <a:lnTo>
                  <a:pt x="25718" y="1400"/>
                </a:lnTo>
                <a:close/>
              </a:path>
              <a:path fill="darkenLess" w="27118" h="21600">
                <a:moveTo>
                  <a:pt x="27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18" y="20200"/>
                </a:lnTo>
                <a:close/>
              </a:path>
              <a:path fill="lighten" w="27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18" h="21600">
                <a:moveTo>
                  <a:pt x="6553" y="3794"/>
                </a:moveTo>
                <a:lnTo>
                  <a:pt x="20566" y="10800"/>
                </a:lnTo>
                <a:lnTo>
                  <a:pt x="6553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300060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5"/>
          <p:cNvSpPr/>
          <p:nvPr/>
        </p:nvSpPr>
        <p:spPr>
          <a:xfrm>
            <a:off x="4284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630880" y="3716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 4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&lt;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630880" y="21398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 2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&gt;  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630880" y="2924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   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3  &lt;  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2630880" y="45086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4  &gt;  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WordArt 8"/>
          <p:cNvSpPr txBox="1"/>
          <p:nvPr/>
        </p:nvSpPr>
        <p:spPr>
          <a:xfrm>
            <a:off x="1332000" y="126828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3205080" y="229860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3203640" y="301932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3205080" y="3789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3203640" y="4581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508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Text Box 14">
            <a:hlinkClick r:id="" action="ppaction://hlinkshowjump?jump=nextslide"/>
            <a:hlinkClick r:id="rId1"/>
          </p:cNvPr>
          <p:cNvSpPr/>
          <p:nvPr/>
        </p:nvSpPr>
        <p:spPr>
          <a:xfrm>
            <a:off x="428904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Text Box 16">
            <a:hlinkClick r:id="rId2" action="ppaction://hlinksldjump"/>
          </p:cNvPr>
          <p:cNvSpPr/>
          <p:nvPr/>
        </p:nvSpPr>
        <p:spPr>
          <a:xfrm>
            <a:off x="552132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284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630880" y="3716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 4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&lt;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630880" y="21398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 2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&gt;  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630880" y="2924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   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3  &lt;  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2630880" y="45086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4  &gt;  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1332000" y="126828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205080" y="229860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3203640" y="301932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3205080" y="3789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3203640" y="4581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5508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Text Box 13">
            <a:hlinkClick r:id="rId1" action="ppaction://hlinksldjump"/>
          </p:cNvPr>
          <p:cNvSpPr/>
          <p:nvPr/>
        </p:nvSpPr>
        <p:spPr>
          <a:xfrm>
            <a:off x="428904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Text Box 14">
            <a:hlinkClick r:id="" action="ppaction://hlinkshowjump?jump=nextslide"/>
            <a:hlinkClick r:id="rId2"/>
          </p:cNvPr>
          <p:cNvSpPr/>
          <p:nvPr/>
        </p:nvSpPr>
        <p:spPr>
          <a:xfrm>
            <a:off x="552132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Text Box 15">
            <a:hlinkClick r:id="" action="ppaction://hlinkshowjump?jump=nextslide"/>
          </p:cNvPr>
          <p:cNvSpPr/>
          <p:nvPr/>
        </p:nvSpPr>
        <p:spPr>
          <a:xfrm>
            <a:off x="3133440" y="200988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4284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2630880" y="3716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 4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&lt;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30880" y="21398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 2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&gt;  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2630880" y="2924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   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3  &lt;  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630880" y="45086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4  &gt;  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WordArt 7"/>
          <p:cNvSpPr txBox="1"/>
          <p:nvPr/>
        </p:nvSpPr>
        <p:spPr>
          <a:xfrm>
            <a:off x="1332000" y="126828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3205080" y="229860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203640" y="301932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205080" y="3789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3203640" y="4581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5508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Text Box 13">
            <a:hlinkClick r:id="rId1" action="ppaction://hlinksldjump"/>
          </p:cNvPr>
          <p:cNvSpPr/>
          <p:nvPr/>
        </p:nvSpPr>
        <p:spPr>
          <a:xfrm>
            <a:off x="428904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6" name="Text Box 14">
            <a:hlinkClick r:id="" action="ppaction://hlinkshowjump?jump=nextslide"/>
            <a:hlinkClick r:id="rId2"/>
          </p:cNvPr>
          <p:cNvSpPr/>
          <p:nvPr/>
        </p:nvSpPr>
        <p:spPr>
          <a:xfrm>
            <a:off x="552132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7" name="Text Box 15">
            <a:hlinkClick r:id="" action="ppaction://hlinkshowjump?jump=nextslide"/>
          </p:cNvPr>
          <p:cNvSpPr/>
          <p:nvPr/>
        </p:nvSpPr>
        <p:spPr>
          <a:xfrm>
            <a:off x="3133440" y="200988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Text Box 16">
            <a:hlinkClick r:id="" action="ppaction://hlinkshowjump?jump=nextslide"/>
            <a:hlinkClick r:id="rId3"/>
          </p:cNvPr>
          <p:cNvSpPr/>
          <p:nvPr/>
        </p:nvSpPr>
        <p:spPr>
          <a:xfrm>
            <a:off x="314496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4284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2630880" y="3716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 4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&lt;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630880" y="21398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 2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&gt;  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2630880" y="2924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   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3  &lt;  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2630880" y="45086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4  &gt;  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4" name="WordArt 7"/>
          <p:cNvSpPr txBox="1"/>
          <p:nvPr/>
        </p:nvSpPr>
        <p:spPr>
          <a:xfrm>
            <a:off x="1332000" y="126828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3205080" y="229860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203640" y="301932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05080" y="3789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3203640" y="4581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5508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0" name="Text Box 13">
            <a:hlinkClick r:id="" action="ppaction://hlinkshowjump?jump=nextslide"/>
            <a:hlinkClick r:id="rId1"/>
          </p:cNvPr>
          <p:cNvSpPr/>
          <p:nvPr/>
        </p:nvSpPr>
        <p:spPr>
          <a:xfrm>
            <a:off x="428904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1" name="Text Box 14">
            <a:hlinkClick r:id="rId2" action="ppaction://hlinksldjump"/>
          </p:cNvPr>
          <p:cNvSpPr/>
          <p:nvPr/>
        </p:nvSpPr>
        <p:spPr>
          <a:xfrm>
            <a:off x="552132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Text Box 15">
            <a:hlinkClick r:id="" action="ppaction://hlinkshowjump?jump=nextslide"/>
            <a:hlinkClick r:id="rId3"/>
          </p:cNvPr>
          <p:cNvSpPr/>
          <p:nvPr/>
        </p:nvSpPr>
        <p:spPr>
          <a:xfrm>
            <a:off x="3133440" y="200988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3" name="Text Box 16">
            <a:hlinkClick r:id="rId4" action="ppaction://hlinksldjump"/>
          </p:cNvPr>
          <p:cNvSpPr/>
          <p:nvPr/>
        </p:nvSpPr>
        <p:spPr>
          <a:xfrm>
            <a:off x="314496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Text Box 17">
            <a:hlinkClick r:id="rId5" action="ppaction://hlinksldjump"/>
          </p:cNvPr>
          <p:cNvSpPr/>
          <p:nvPr/>
        </p:nvSpPr>
        <p:spPr>
          <a:xfrm>
            <a:off x="3144960" y="316224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4284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2630880" y="3716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8       4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&lt;  5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630880" y="21398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3       2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&gt;  4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630880" y="292428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7   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3  &lt;  6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630880" y="4508640"/>
            <a:ext cx="26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4 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   4  &gt;  7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0" name="WordArt 7"/>
          <p:cNvSpPr txBox="1"/>
          <p:nvPr/>
        </p:nvSpPr>
        <p:spPr>
          <a:xfrm>
            <a:off x="1332000" y="1268280"/>
            <a:ext cx="532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ставь знаки так, что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еравенства были верным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3205080" y="229860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3203640" y="301932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3205080" y="3789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3203640" y="4581360"/>
            <a:ext cx="503280" cy="4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5508720" y="5950080"/>
            <a:ext cx="574560" cy="5540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Text Box 13">
            <a:hlinkClick r:id="" action="ppaction://hlinkshowjump?jump=nextslide"/>
            <a:hlinkClick r:id="rId1"/>
          </p:cNvPr>
          <p:cNvSpPr/>
          <p:nvPr/>
        </p:nvSpPr>
        <p:spPr>
          <a:xfrm>
            <a:off x="4289040" y="575460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7" name="Text Box 14">
            <a:hlinkClick r:id="rId2" action="ppaction://hlinksldjump"/>
          </p:cNvPr>
          <p:cNvSpPr/>
          <p:nvPr/>
        </p:nvSpPr>
        <p:spPr>
          <a:xfrm>
            <a:off x="5521320" y="5445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Text Box 15">
            <a:hlinkClick r:id="" action="ppaction://hlinkshowjump?jump=nextslide"/>
            <a:hlinkClick r:id="rId3"/>
          </p:cNvPr>
          <p:cNvSpPr/>
          <p:nvPr/>
        </p:nvSpPr>
        <p:spPr>
          <a:xfrm>
            <a:off x="3133440" y="200988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9" name="Text Box 16">
            <a:hlinkClick r:id="rId4" action="ppaction://hlinksldjump"/>
          </p:cNvPr>
          <p:cNvSpPr/>
          <p:nvPr/>
        </p:nvSpPr>
        <p:spPr>
          <a:xfrm>
            <a:off x="3144960" y="242100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Text Box 17">
            <a:hlinkClick r:id="rId5" action="ppaction://hlinksldjump"/>
          </p:cNvPr>
          <p:cNvSpPr/>
          <p:nvPr/>
        </p:nvSpPr>
        <p:spPr>
          <a:xfrm>
            <a:off x="3144960" y="3162240"/>
            <a:ext cx="561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Text Box 18">
            <a:hlinkClick r:id="" action="ppaction://hlinkshowjump?jump=nextslide"/>
            <a:hlinkClick r:id="rId6"/>
          </p:cNvPr>
          <p:cNvSpPr/>
          <p:nvPr/>
        </p:nvSpPr>
        <p:spPr>
          <a:xfrm>
            <a:off x="3133440" y="4292640"/>
            <a:ext cx="581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2" name="AutoShape 19">
            <a:hlinkClick r:id="" action="ppaction://hlinkshowjump?jump=nextslide"/>
          </p:cNvPr>
          <p:cNvSpPr/>
          <p:nvPr/>
        </p:nvSpPr>
        <p:spPr>
          <a:xfrm>
            <a:off x="73080" y="6419880"/>
            <a:ext cx="682560" cy="322200"/>
          </a:xfrm>
          <a:custGeom>
            <a:avLst/>
            <a:gdLst>
              <a:gd name="textAreaLeft" fmla="*/ 20880 w 682560"/>
              <a:gd name="textAreaRight" fmla="*/ 661680 w 682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5731" h="21600">
                <a:moveTo>
                  <a:pt x="0" y="0"/>
                </a:moveTo>
                <a:lnTo>
                  <a:pt x="45731" y="0"/>
                </a:lnTo>
                <a:lnTo>
                  <a:pt x="45731" y="21600"/>
                </a:lnTo>
                <a:lnTo>
                  <a:pt x="0" y="21600"/>
                </a:lnTo>
                <a:close/>
              </a:path>
              <a:path fill="lightenLess" w="45731" h="21600">
                <a:moveTo>
                  <a:pt x="0" y="0"/>
                </a:moveTo>
                <a:lnTo>
                  <a:pt x="45731" y="0"/>
                </a:lnTo>
                <a:lnTo>
                  <a:pt x="44331" y="1400"/>
                </a:lnTo>
                <a:lnTo>
                  <a:pt x="1400" y="1400"/>
                </a:lnTo>
                <a:close/>
              </a:path>
              <a:path fill="darken" w="45731" h="21600">
                <a:moveTo>
                  <a:pt x="45731" y="0"/>
                </a:moveTo>
                <a:lnTo>
                  <a:pt x="45731" y="21600"/>
                </a:lnTo>
                <a:lnTo>
                  <a:pt x="44331" y="20200"/>
                </a:lnTo>
                <a:lnTo>
                  <a:pt x="44331" y="1400"/>
                </a:lnTo>
                <a:close/>
              </a:path>
              <a:path fill="darkenLess" w="45731" h="21600">
                <a:moveTo>
                  <a:pt x="45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331" y="20200"/>
                </a:lnTo>
                <a:close/>
              </a:path>
              <a:path fill="lighten" w="45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731" h="21600">
                <a:moveTo>
                  <a:pt x="15859" y="3794"/>
                </a:moveTo>
                <a:lnTo>
                  <a:pt x="29872" y="10800"/>
                </a:lnTo>
                <a:lnTo>
                  <a:pt x="15859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"/>
          <p:cNvSpPr/>
          <p:nvPr/>
        </p:nvSpPr>
        <p:spPr>
          <a:xfrm>
            <a:off x="696240" y="2000160"/>
            <a:ext cx="6357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i066.radikal.ru/0810/b6/aa675c5e5bb3.png - заяц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i038.radikal.ru/0906/d2/6e98f863407c.jpg - Карлсон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spynet.ru/uploads/posts/2008-07/1215181303_karlson.jpg 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Карлсон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www.sesamo.com/colouring/images/carrot.gif - морковь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i045.radikal.ru/0801/45/1eeed373a979.jpg - рамка Карлсон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http://viki.rdf.ru/item/911/ - звук из презентации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Осьмаковой М. В.    Использованы фразы из мультфильма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«Малыш и Карлсон» («Союзмультфильм, 1968г.)</a:t>
            </a:r>
            <a:endParaRPr b="0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1187280" y="1073160"/>
            <a:ext cx="55454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 книге: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уркова О. П. Математика. Задания на лето. Иду во второй класс. – Саратов: Лицей, 2008.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21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Text Box 27">
            <a:hlinkClick r:id="" action="ppaction://hlinkshowjump?jump=nextslide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Text Box 28">
            <a:hlinkClick r:id="rId1" action="ppaction://hlinksldjump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Text Box 29">
            <a:hlinkClick r:id="rId2" action="ppaction://hlinksldjump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Text Box 30">
            <a:hlinkClick r:id="rId3" action="ppaction://hlinksldjump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Text Box 31">
            <a:hlinkClick r:id="rId4" action="ppaction://hlinksldjump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Text Box 32">
            <a:hlinkClick r:id="rId5" action="ppaction://hlinksldjump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Text Box 26">
            <a:hlinkClick r:id="rId1" action="ppaction://hlinksldjump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Text Box 27">
            <a:hlinkClick r:id="" action="ppaction://hlinkshowjump?jump=nextslide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Text Box 28">
            <a:hlinkClick r:id="rId2" action="ppaction://hlinksldjump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Text Box 29">
            <a:hlinkClick r:id="rId3" action="ppaction://hlinksldjump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Text Box 30">
            <a:hlinkClick r:id="rId4" action="ppaction://hlinksldjump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Text Box 31">
            <a:hlinkClick r:id="rId5" action="ppaction://hlinksldjump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Text Box 26">
            <a:hlinkClick r:id="rId1" action="ppaction://hlinksldjump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Text Box 27">
            <a:hlinkClick r:id="rId2" action="ppaction://hlinksldjump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Text Box 28">
            <a:hlinkClick r:id="" action="ppaction://hlinkshowjump?jump=nextslide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Text Box 29">
            <a:hlinkClick r:id="rId3" action="ppaction://hlinksldjump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Text Box 30">
            <a:hlinkClick r:id="rId4" action="ppaction://hlinksldjump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Text Box 31">
            <a:hlinkClick r:id="rId5" action="ppaction://hlinksldjump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Text Box 26">
            <a:hlinkClick r:id="rId1" action="ppaction://hlinksldjump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Text Box 27">
            <a:hlinkClick r:id="rId2" action="ppaction://hlinksldjump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Text Box 28">
            <a:hlinkClick r:id="rId3" action="ppaction://hlinksldjump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Text Box 29">
            <a:hlinkClick r:id="" action="ppaction://hlinkshowjump?jump=nextslide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Text Box 30">
            <a:hlinkClick r:id="rId4" action="ppaction://hlinksldjump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Text Box 31">
            <a:hlinkClick r:id="rId5" action="ppaction://hlinksldjump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Text Box 34"/>
          <p:cNvSpPr/>
          <p:nvPr/>
        </p:nvSpPr>
        <p:spPr>
          <a:xfrm>
            <a:off x="327852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Text Box 26">
            <a:hlinkClick r:id="rId1" action="ppaction://hlinksldjump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Text Box 27">
            <a:hlinkClick r:id="rId2" action="ppaction://hlinksldjump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Text Box 28">
            <a:hlinkClick r:id="rId3" action="ppaction://hlinksldjump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Text Box 29">
            <a:hlinkClick r:id="rId4" action="ppaction://hlinksldjump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Text Box 30">
            <a:hlinkClick r:id="" action="ppaction://hlinkshowjump?jump=nextslide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Text Box 31">
            <a:hlinkClick r:id="rId5" action="ppaction://hlinksldjump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327852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Text Box 35"/>
          <p:cNvSpPr/>
          <p:nvPr/>
        </p:nvSpPr>
        <p:spPr>
          <a:xfrm>
            <a:off x="4142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Text Box 26">
            <a:hlinkClick r:id="rId1" action="ppaction://hlinksldjump"/>
          </p:cNvPr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Text Box 27">
            <a:hlinkClick r:id="rId2" action="ppaction://hlinksldjump"/>
          </p:cNvPr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Text Box 28">
            <a:hlinkClick r:id="rId3" action="ppaction://hlinksldjump"/>
          </p:cNvPr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Text Box 29">
            <a:hlinkClick r:id="rId4" action="ppaction://hlinksldjump"/>
          </p:cNvPr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Text Box 30">
            <a:hlinkClick r:id="rId5" action="ppaction://hlinksldjump"/>
          </p:cNvPr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Text Box 31">
            <a:hlinkClick r:id="" action="ppaction://hlinkshowjump?jump=nextslide"/>
            <a:hlinkClick r:id="rId6"/>
          </p:cNvPr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327852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4142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500580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835280" y="141300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Запиши чис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 порядке возрастания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03280" y="2565360"/>
          <a:ext cx="5113440" cy="914400"/>
        </p:xfrm>
        <a:graphic>
          <a:graphicData uri="http://schemas.openxmlformats.org/drawingml/2006/table">
            <a:tbl>
              <a:tblPr/>
              <a:tblGrid>
                <a:gridCol w="852480"/>
                <a:gridCol w="852480"/>
                <a:gridCol w="852480"/>
                <a:gridCol w="852480"/>
                <a:gridCol w="851040"/>
                <a:gridCol w="8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Text Box 20"/>
          <p:cNvSpPr/>
          <p:nvPr/>
        </p:nvSpPr>
        <p:spPr>
          <a:xfrm>
            <a:off x="1319040" y="3017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600280" y="29973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3827520" y="2997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062680" y="3068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6359400" y="3068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537320" y="3090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5437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57380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273888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1981440" y="3933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6302880" y="39546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3464640" y="393372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586160" y="265572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241344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327852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414216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5005800" y="2637000"/>
            <a:ext cx="46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726880" y="2637000"/>
            <a:ext cx="744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AutoShape 38">
            <a:hlinkClick r:id="rId1" action="ppaction://hlinksldjump"/>
          </p:cNvPr>
          <p:cNvSpPr/>
          <p:nvPr/>
        </p:nvSpPr>
        <p:spPr>
          <a:xfrm>
            <a:off x="71280" y="6308640"/>
            <a:ext cx="613080" cy="478080"/>
          </a:xfrm>
          <a:custGeom>
            <a:avLst/>
            <a:gdLst>
              <a:gd name="textAreaLeft" fmla="*/ 30960 w 613080"/>
              <a:gd name="textAreaRight" fmla="*/ 582120 w 61308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695" h="21600">
                <a:moveTo>
                  <a:pt x="0" y="0"/>
                </a:moveTo>
                <a:lnTo>
                  <a:pt x="27695" y="0"/>
                </a:lnTo>
                <a:lnTo>
                  <a:pt x="27695" y="21600"/>
                </a:lnTo>
                <a:lnTo>
                  <a:pt x="0" y="21600"/>
                </a:lnTo>
                <a:close/>
              </a:path>
              <a:path fill="lightenLess" w="27695" h="21600">
                <a:moveTo>
                  <a:pt x="0" y="0"/>
                </a:moveTo>
                <a:lnTo>
                  <a:pt x="27695" y="0"/>
                </a:lnTo>
                <a:lnTo>
                  <a:pt x="26295" y="1400"/>
                </a:lnTo>
                <a:lnTo>
                  <a:pt x="1400" y="1400"/>
                </a:lnTo>
                <a:close/>
              </a:path>
              <a:path fill="darken" w="27695" h="21600">
                <a:moveTo>
                  <a:pt x="27695" y="0"/>
                </a:moveTo>
                <a:lnTo>
                  <a:pt x="27695" y="21600"/>
                </a:lnTo>
                <a:lnTo>
                  <a:pt x="26295" y="20200"/>
                </a:lnTo>
                <a:lnTo>
                  <a:pt x="26295" y="1400"/>
                </a:lnTo>
                <a:close/>
              </a:path>
              <a:path fill="darkenLess" w="27695" h="21600">
                <a:moveTo>
                  <a:pt x="27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5" y="20200"/>
                </a:lnTo>
                <a:close/>
              </a:path>
              <a:path fill="lighten" w="27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5" h="21600">
                <a:moveTo>
                  <a:pt x="6841" y="3794"/>
                </a:moveTo>
                <a:lnTo>
                  <a:pt x="20854" y="10800"/>
                </a:lnTo>
                <a:lnTo>
                  <a:pt x="6841" y="17806"/>
                </a:lnTo>
                <a:close/>
              </a:path>
            </a:pathLst>
          </a:custGeom>
          <a:solidFill>
            <a:srgbClr val="800000">
              <a:alpha val="63000"/>
            </a:srgbClr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5:46:15Z</dcterms:created>
  <dc:creator>Люсенька</dc:creator>
  <dc:description/>
  <dc:language>en-US</dc:language>
  <cp:lastModifiedBy>Оля</cp:lastModifiedBy>
  <dcterms:modified xsi:type="dcterms:W3CDTF">2015-01-11T12:02:46Z</dcterms:modified>
  <cp:revision>12</cp:revision>
  <dc:subject/>
  <dc:title>Слайд 1</dc:title>
</cp:coreProperties>
</file>